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0BD-8CAA-4334-A79A-25285D1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FFA-684A-41CF-B113-245E473D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4C5-B506-4D3B-8433-0E670744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AF3-2504-4A68-9759-5DCB9629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343-EC20-488D-9F2B-833DC54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8CB-D6BD-4DDA-A6F1-50C0EB8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54F-916F-4760-85DA-B73BD1F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8F9-DAFA-4B2D-9920-EB825212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C06-D4FF-4B62-9E51-5428DE0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156-1844-4ED1-B2EA-37CE9D07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AE5-9710-45DD-BAF9-36E941F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281-5BF3-4BEF-851A-94F45D9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E18-2136-4A4C-BB53-B0E30FB0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two-step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2385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530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1520" y="19810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 Solving Two-Step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:   10 =  m     +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1295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             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057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4382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2  =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590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   - b + 6 = 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6        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219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209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     =     -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              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 =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062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= 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048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142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259092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90b + 2.50 = 18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124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.50    - 2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581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90b   =   16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0481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267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.90           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4281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0292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 = 17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7 bu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ome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70800" y="4176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: Using De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400" y="15606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: solve 1 = k  +  5   Justify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1240" y="417600"/>
            <a:ext cx="50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5: solve 8 – 3y = 14   Justify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27Z</dcterms:created>
  <dc:creator>Susannah Graham</dc:creator>
  <dc:description/>
  <dc:language>en-US</dc:language>
  <cp:lastModifiedBy>BRSD</cp:lastModifiedBy>
  <dcterms:modified xsi:type="dcterms:W3CDTF">2009-11-02T12:46:43Z</dcterms:modified>
  <cp:revision>10</cp:revision>
  <dc:subject/>
  <dc:title>Problem of the day!!!</dc:title>
</cp:coreProperties>
</file>